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86A-0AB9-4581-A040-925A1BA6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C5D-851C-4DBA-9C48-6C85A67F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552-E04B-43CD-B2AA-6D96C143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E58-E846-40E4-AE5E-CB7A81DE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055-CABC-4CB7-A27F-197A03AB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DDFC-7144-4747-BD8E-0BB8423C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161F-F702-44CD-ACC4-12C6DD6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0F73-5777-47C5-AE08-8770A84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A9E6-F62F-40CD-901C-4C37A02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D344-32F2-46CC-AA6F-35D7D21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DE1B-5158-4960-9BC0-96B87A9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DA3-345E-43D6-B7A7-ED4F4D4E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B05F-070E-482F-9200-414720F0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561-4119-46AA-A595-516B2B2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427C-6ABA-498C-B08A-1D193DA5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7C3D-ED41-498B-A122-71A56087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321-1456-4475-A480-268F11AA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172-FE84-4717-A6DB-AB2B347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5BE-9001-4EFB-97ED-E64C9E2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9CA-1D1B-4FC6-98B9-ECD1DE17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EFA-2805-4089-998A-9F2E56F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232-AB6E-4F35-BD54-C58D29B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802-9E24-4C84-97E5-B64BFFE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6B2-737A-4AA9-A951-F3916DD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302-CD0F-4DC5-BC8A-2682BA273DD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AF75-D3BE-428D-A68C-9AF0F772C3C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160" y="1066680"/>
            <a:ext cx="54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esson Ninetee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2880" y="2743200"/>
            <a:ext cx="308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Sold Ou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2160" y="219240"/>
            <a:ext cx="89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Were you at a theatre or a cinem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Did you think the play was soon going to be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Who was with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She thought thr play might have begun already, didn’t sh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What did you 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How mane tickets did you ask f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Did the girl at the ticket office have any lef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What did she s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Was Susan disappoin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Who hurried to the ticket office just th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. What did he want to retu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. Did the girl accept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0" y="196920"/>
            <a:ext cx="910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lay– begin—any moment’—s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‘may have begun’—Sus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Hurried—ticket office—’ticket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‘sorry—sold out,’—gi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Just then–-hurried—ticket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 ‘return—tickets’—asked. ‘certainly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. Back—at once. ‘Could—those two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“Certaily’—’next Wednesday’s—w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m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‘might as well’--sa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2600" y="73080"/>
            <a:ext cx="872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Key to summary wr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play was going to begin at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ment.I Asked for two tickets. Th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re none left. Susan and I w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isappointed. Just then, a man hurri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o the ticket office. He returned tw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ickets. They were for nex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dnesday’s performance. I bough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7520" y="295200"/>
            <a:ext cx="51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ord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ll out (=sell completely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售空，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h be sold out,  sell out s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本新书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手唱片都已卖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卖完了所有的报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19717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is new book is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320" y="288612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second- hand records are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640" y="3952800"/>
            <a:ext cx="46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 sold out all the new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960" y="4334040"/>
            <a:ext cx="843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y/might as well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…的确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妨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还是跟我一起走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No one will eat this food; 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把它扔掉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760" y="517212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ou may/might come with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0560" y="562932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t may/might be as well th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8:28Z</dcterms:created>
  <dc:creator/>
  <dc:description/>
  <dc:language>en-US</dc:language>
  <cp:lastModifiedBy>st</cp:lastModifiedBy>
  <dcterms:modified xsi:type="dcterms:W3CDTF">2002-07-10T01:22:21Z</dcterms:modified>
  <cp:revision>2</cp:revision>
  <dc:subject/>
  <dc:title>PowerPoint 演示文稿</dc:title>
</cp:coreProperties>
</file>